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C7E-BD58-4EAE-A0CC-699A9043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FCE-E409-450E-98E7-0EDB6176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690-8202-4FC9-9816-019D8FD8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D58-B8CC-49B9-915E-646A3122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ECB4-B5D0-48AB-B68A-0FDF3373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7B79-6A4E-4234-ADE9-4D37341E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42B9-CF18-44D4-84F4-039B7CCC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4ABE-18E0-4010-A672-8FFFEA8A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29B5-C8C2-44B2-AB03-03F2DAA7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0702-684D-4D21-9A27-ED56F67A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4797-FC5D-4523-8F7D-EA53F13B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23AB-CB15-4EF7-BBC2-0A8D7999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A914-C47D-4DCD-A098-B8755F85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3F0D-3B21-496E-AB81-F334A5D0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29B8-8313-4008-8F74-588ECA6D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BEB7-F746-4E1A-81DA-8ABF9F65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916E-7936-43CD-B6F0-DB954B7F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6D4-4A7F-4F05-8040-2DDF300C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509-CB6A-4CEC-B294-045A54F2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5967-10A7-445B-8A79-D608C221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786-190B-47C3-A374-1D2F51DD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70C-6FFA-492C-A769-BBE11F1E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97E-C577-43FD-9239-5FC70218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FFE-88D9-447A-8C2C-0F692FB5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F1CE-71C9-4F30-A04C-50D849F118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3C37-76C8-458D-846B-CA95C4FB8C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nstantia"/>
              </a:rPr>
              <a:t>Noble Gas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Taylor and Jennif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ble G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ium (H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on (N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gon (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rypton (K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enon (X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on (R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ence Electr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ium-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on-8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gon-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rypton-1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enon-1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on-32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e of the elements in the noble g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up are reactive because the val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ron shells are full. Also, all of the nob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ses are nonmetals and are found in t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rth’s atmosphere. The noble gases 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nd on the far east side of the period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b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ducts and Examp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ium is used to fill ballo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on is used to make up neon light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quid helium is used to make superconducting magnet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esting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Noble Gases are called noble because they don’t react with other chemic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arth’s atmosphere is 0.93% arg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heaviest of all noble gases is arg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Noble Gases do not easily form compoun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20:13:19Z</dcterms:created>
  <dc:creator>tatumadmin</dc:creator>
  <dc:description/>
  <dc:language>en-US</dc:language>
  <cp:lastModifiedBy>tatumadmin</cp:lastModifiedBy>
  <dcterms:modified xsi:type="dcterms:W3CDTF">2009-12-04T20:08:53Z</dcterms:modified>
  <cp:revision>3</cp:revision>
  <dc:subject/>
  <dc:title>Noble Gases</dc:title>
</cp:coreProperties>
</file>